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6BCA-92CB-42CC-A50A-547A6EF0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9A43-158B-45A7-B8B1-9104A444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DB1-9270-4652-AC78-C4AB7735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385-03E2-41CF-A296-F8CC3FED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16FF-5CC7-4105-88A6-97023B78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9D50-AB54-476E-8BE7-824CBD6E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F6F2-542C-4462-972B-38FB7B9E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40B1-3796-41A4-9BE8-93738E6F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0A57-30AC-4055-9CF2-F94BD22C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CCF-8A44-4992-A32A-F9C420F6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01E-14FF-45E2-8739-C14FFD05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B23D-E47D-4C69-BD35-3C578FE6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990E-673E-4CA3-AB80-63AC3FFC3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mazon.com/gp/product/images/B001I8A34Q/ref=dp_image_0/186-5769071-4149634?ie=UTF8&amp;n=3367581&amp;s=jewelry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 rot="10800000">
            <a:off x="6764400" y="5277240"/>
            <a:ext cx="10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48520" y="52531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nny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March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Rendered Image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96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339600">
            <a:off x="914040" y="1905120"/>
            <a:ext cx="3814920" cy="388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8080" y="5791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400800" y="2438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57800" y="3276720"/>
            <a:ext cx="3429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isconsin state s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/10/2012, www.50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3800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1532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ol: Mad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: 5,686,9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ed union: May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848,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to: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: Badger state/ America’s dairy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er: Wood Vio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: Ro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g: On Wiscon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behind name: Long ri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s: Wisconsin's gemstone is Ruby. Georgia O'Keeffe, the artist was born there. There are various activities such as dog sledding, canoeing and ski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667 0.05549 L 5E-006 -3.98844E-006 E">
                                      <p:cBhvr>
                                        <p:cTn id="74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1.95 cttw Original Star K(tm) Lab Created Heart Shaped Ruby Pendant in .925 Sterling Silver">
            <a:hlinkClick r:id="rId1"/>
          </p:cNvPr>
          <p:cNvPicPr/>
          <p:nvPr/>
        </p:nvPicPr>
        <p:blipFill>
          <a:blip r:embed="rId2"/>
          <a:stretch/>
        </p:blipFill>
        <p:spPr>
          <a:xfrm rot="340800">
            <a:off x="1371240" y="304920"/>
            <a:ext cx="4419720" cy="4257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6629400" y="457200"/>
            <a:ext cx="205740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zon, Ruby Gemstone, March 2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ttp://www.amazon.com/Original-Star-Created-Shaped-Pendant/dp/B006FPUWZM%3FSubscriptionId%3D083MT9Z7SZY8WMM3T082%26tag%3Djewlerymall%26linkCode%3Dsp1%26camp%3D2025%26creative%3D165953%26creativeASIN%3DB006FPUWZ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9760" y="5029200"/>
            <a:ext cx="780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icture shows the beautiful gemstone of Wisconsi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 Ru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5790960" cy="3868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1600200" y="152280"/>
            <a:ext cx="5638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of Oklahoma, Wisconsin flag, March 2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3808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aw.ou.edu/ushistory/flags/wiflag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5334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icture shows the flag of Wisconsin, with the year the state entered the union, 184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All images Copyright © 1997 - 2000 WriteLine. All Rights Reserved. Capitol dome"/>
          <p:cNvPicPr/>
          <p:nvPr/>
        </p:nvPicPr>
        <p:blipFill>
          <a:blip r:embed="rId1"/>
          <a:stretch/>
        </p:blipFill>
        <p:spPr>
          <a:xfrm>
            <a:off x="1371600" y="129528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228600"/>
            <a:ext cx="571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r America through Postcards, Madison Wisconsin, March 2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ttp://www.postcardsfrom.com/t1/98062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6095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is the very large capitol buil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38Z</dcterms:created>
  <dc:creator>install</dc:creator>
  <dc:description/>
  <dc:language>en-US</dc:language>
  <cp:lastModifiedBy>install</cp:lastModifiedBy>
  <dcterms:modified xsi:type="dcterms:W3CDTF">2012-04-16T13:06:44Z</dcterms:modified>
  <cp:revision>12</cp:revision>
  <dc:subject/>
  <dc:title>Slide 1</dc:title>
</cp:coreProperties>
</file>